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jpeg" ContentType="image/jpeg"/>
  <Override PartName="/ppt/media/image22.jpeg" ContentType="image/jpeg"/>
  <Override PartName="/ppt/media/image26.jpeg" ContentType="image/jpeg"/>
  <Override PartName="/ppt/media/image5.jpeg" ContentType="image/jpeg"/>
  <Override PartName="/ppt/media/image15.gif" ContentType="image/gif"/>
  <Override PartName="/ppt/media/image8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30.wmf" ContentType="image/x-wmf"/>
  <Override PartName="/ppt/media/image13.gif" ContentType="image/gif"/>
  <Override PartName="/ppt/media/image29.jpeg" ContentType="image/jpeg"/>
  <Override PartName="/ppt/media/image33.wmf" ContentType="image/x-wmf"/>
  <Override PartName="/ppt/media/image3.wmf" ContentType="image/x-wmf"/>
  <Override PartName="/ppt/media/image2.jpeg" ContentType="image/jpeg"/>
  <Override PartName="/ppt/media/image23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1.wmf" ContentType="image/x-wmf"/>
  <Override PartName="/ppt/media/image14.gif" ContentType="image/gif"/>
  <Override PartName="/ppt/media/image12.wmf" ContentType="image/x-wmf"/>
  <Override PartName="/ppt/media/image16.gif" ContentType="image/gif"/>
  <Override PartName="/ppt/media/image27.jpeg" ContentType="image/jpeg"/>
  <Override PartName="/ppt/media/image17.gif" ContentType="image/gif"/>
  <Override PartName="/ppt/media/image21.jpeg" ContentType="image/jpeg"/>
  <Override PartName="/ppt/media/image32.wmf" ContentType="image/x-wmf"/>
  <Override PartName="/ppt/media/image20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4DB-FD10-4386-9B8F-9286EFFE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A11-5E4D-4EDE-BACF-CC2311B2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EFD-D00A-4908-AFB9-5EE3AF17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F84-6956-407E-91B3-770BA3AE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B86D-55B0-4BA2-9135-219EE8E9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A447-E6A7-417F-9393-CBFA4916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B84A-5B27-4571-A84C-25920D15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052F-70CF-4C43-A56E-45A5A90A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590A-813B-44DC-96AB-90C6E4AC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C6FE-B912-4DB0-9C76-9172F860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278D-7FE3-4444-BE17-012D5758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8A5-7F58-41D9-8A7C-163712A8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6720-A020-4293-A378-14C44E09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E6E8-D314-48CD-8C6B-D4D0530E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B87B-993A-41D7-8910-C9C6F8C3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5BAB-BE1F-4B65-9CCD-102BEB9F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4B0D-440B-42E9-BCB5-00538811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F0E-67B9-428E-857E-6F6DEC7F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46C-DDD7-4C2E-90DA-728D9E75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55E-758A-4768-A634-8F9D359B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437-FE07-45A8-8BEA-2209FB31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900-7ACB-4F9A-802E-FD627C33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0EA-9CF5-4C42-ABD6-7178D85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F87-7528-45B6-A17B-0F0D8B33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16E1-14DB-40B4-B62D-5374DBB0E1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7EFA-21B4-4509-A180-5820D65C16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632720" cy="2663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liedros y Cuerpos redondo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alabra poliedro (Π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λυεδρ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riva de los términos grieg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λυ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ucho) y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εδρα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lano)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2814480"/>
            <a:ext cx="359892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6960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todos los poliedros convexos se verifica siempre que el número de caras más el número de vértices es igual al número de aristas más d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414972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 + V = A +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5229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03dff"/>
                </a:solidFill>
                <a:latin typeface="Comic Sans MS"/>
              </a:rPr>
              <a:t>Carlos V es Austría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769608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y otros elementos en los poliedros que debes conocer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896000" cy="308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364000" y="1628640"/>
            <a:ext cx="33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¿Cómo definirías la diagonal de un poliedr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 dos vértices que no están en la misma c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4005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¿Y el plano diago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ene dos diag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486900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 es el número de diagonales y de planos diagonales del poliedro anter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27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Explica razonadamente cuáles de las siguientes afirmaciones son verdaderas y cuáles son fals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0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1. El número de aristas de un poliedro que concurren en un vértice es, como mínimo, 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989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2. Las caras de un poliedro son todas ig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440" y="2421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3. Hay poliedros con tres c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292428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4. En cada vértice de un poliedro concurren siempre el mismo número de ari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371628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5. Las caras de un poliedro han de ser forzosamente polígo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2720" y="4581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6. Todos los poliedros de cinco caras tienen 8 aristas y 5 vér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537372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7. El número mínimo de caras que concurren en un vértice e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1280" y="61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8. El cilindro es un polied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8709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POLIEDROS REGULA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4865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les conoce con el nombre de sólidos platónicos en honor a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Plató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iglo IV a. de C.), pero lo cierto es que no se sabe en qué época llegaron a conocer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mos que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un poliedro es regular si todas sus caras son polígonos regulares igual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quieres comprobarlo, fíjate en el número de caras, de vértices y de aristas de cada uno de los siguientes poliedros regulare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ólo hay cinco poliedros regulares, que son: el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tetraedro, el hexaedro o cubo, el octaedro, el dodecaedro y el icosaedr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136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ETRAEDRO RE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1280" y="1973160"/>
            <a:ext cx="777384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do por tres triángulos equiláteros. Es el que tiene menor volumen de los cinco en comparación con su superficie. Representa el fuego. Está formado por 4 caras, 6 aristas y 4 vér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5724360" y="465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800"/>
                </a:solidFill>
                <a:latin typeface="Comic Sans MS"/>
              </a:rPr>
              <a:t>OCTAEDRO RE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384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do por ocho triángulos equiláteros. Gira libremente cuando se sujeta por vértices opuestos. Por ello, representa al aire en movimiento. Está formado por 8 caras, 12 aristas y 6 vér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797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124000" y="328464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ICOSAEDRO RE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7738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do por veinte triángulos equiláteros. Es el tiene mayor volumen en relación con su superficie y representa al agua. Tiene 20 caras, 30 aristas y 12 vér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941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2519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6912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HEXAEDRO REGULAR O CUB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775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do por seis cuadrados. Permanece estable sobre su base. Por eso representa la tierra. Está formado por 6 caras, 12 aristas y 8 vér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486900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556000" y="357336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DODECAEDRO REGULA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2044440"/>
            <a:ext cx="7774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do por doce pentágonos regulares. Corresponde al Universo, pues sus doce caras pueden albergar los doce signos del Zodiaco. Tiene 12 caras, 30 aristas y 20 vér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4581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EL UNI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desarrollo de cada sólido platón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6360" y="2203560"/>
            <a:ext cx="8640720" cy="46101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9640" y="1557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bújalos en una cartulina, recórtalos y constrúy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UERPOS SÓLI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cuerpo sólido es todo lo que ocupa lugar en el espaci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s cuerpos geométricos pueden ser de dos clases: o formados por caras planas (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liedr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o teniendo alguna o todas sus caras curvas (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uerpos redond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8064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iedros en la vida cotidia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2256120" cy="1842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564000" y="1341360"/>
            <a:ext cx="1749240" cy="2619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619280" y="3068640"/>
            <a:ext cx="3816360" cy="2854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932360" y="1628640"/>
            <a:ext cx="3726000" cy="2795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4859280" y="3141720"/>
            <a:ext cx="25052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40210" t="0" r="0" b="0"/>
          <a:stretch/>
        </p:blipFill>
        <p:spPr>
          <a:xfrm>
            <a:off x="4500720" y="3500280"/>
            <a:ext cx="4176720" cy="31402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SMA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702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 prismas tienen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dos caras (bases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que son iguales y paralelas entre sí. Las caras laterales son paralelogramo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 elementos de un prisma son los siguiente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son la cara en la que se apoya el prisma y su opuesta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caras latera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son las caras que comparten dos de sus lados con las bases. La suma de sus áreas es la superficie lateral del prisma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arista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son los lados de las bases y de las caras lateral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vértic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son los puntos en donde se encuentran cada par de arista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 prismas se nombran según sea el polígono de sus bases: prisma triangular, cuadrangular, pentagonal, hexagonal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763640" y="4065480"/>
            <a:ext cx="28796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20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prisma se llam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c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ndo sus aristas laterales son perpendiculares a las bases y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blicu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 caso contrar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191628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altura de un prisma será el segmento de perpendicular a las bases comprendido entre 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3429000"/>
            <a:ext cx="81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la base del prisma es un triángulo, el prisma se llamará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iangul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si es un cuadrado, se llamará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uadrangul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0" y="4589640"/>
            <a:ext cx="410544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49672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y unos prismas especialmente interesantes dentro de los prismas cuadrangulares. Estos son lo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alelepípedo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lamados así porque los cuadriláteros de las bases son paralelogram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350028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l paralelepípedo es recto y los paralelogramos de las bases son rectángulos, éste recibe el nombre de o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ed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435640" y="3500280"/>
            <a:ext cx="3257640" cy="22640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20937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95280" y="188640"/>
            <a:ext cx="33829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RÁMI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065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ando cortamos un ángulo poliedro por un plano, se obtiene un cuerpo geométrico llamado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irámid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s pirámides son poliedros que tienen una sola base, que es un polígono cualquiera, y sus otras caras son triángulos que se unen en un vértice común que se llama cúspide o vértice de la pirámi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311280" cy="2376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26920" y="256536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2174760"/>
            <a:ext cx="4608360" cy="435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elementos de una pirámide son los sigui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b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es la cara en la que se apoya la pirám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caras lateral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son las caras que comparten uno de sus lados con la base. La suma de sus áreas es la superficie lateral de la pirám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arista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son los lados de las bases y de las caras lat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vértic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son los puntos en donde se encuentran cada par de ar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apotema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son las alturas de las caras laterales de la pirám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6720" y="5013360"/>
            <a:ext cx="3600720" cy="1618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nombran según sea el polígono de su base: pirámide triangular, cuadrangular, pentagonal, hexagonal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057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s pirámides se puede clasificar de forma análoga a los prismas. Así, h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irámides recta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licu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egún que el centro del polígono de la base coincida o no con el pie de la altura de la pirámide, 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ulare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rregular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egún que el polígono de la base sea o no regula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400536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í mismo, según el número de lados del polígono de la base, la pirámide será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iangul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uadrangu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,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ntag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ONCO DE PIRÁM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 cortamos una pirámide por un plano, obtenemos un tronco de pirámide, que será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c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blicu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egún que el plano sea o no paralelo a la base. Fíjate en que las caras laterales de un tronco de pirámide son trapecios y cuando éste es regular, entonces los trapecios son isósceles iguales y su altura coincide con la apotema del tronco de pirámide. Por otra parte, las bases son polígonos semejant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451640" y="4437000"/>
            <a:ext cx="151308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uerpos redondo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7696440" cy="3048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68360" y="98100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 lata de refresco, la punta de un lapicero y un balón son cuerpos geométricos que tienen parte de su superficie, o toda ella,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ur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La lata es un cilindro, la punta del lápiz es un cono y el balón una esf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stos tres cuerpos: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ilindro, cono y esfer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e les llama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uerpos redond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68360" y="333360"/>
            <a:ext cx="44625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lind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940360" y="2421000"/>
            <a:ext cx="2308320" cy="3657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39640" y="1125360"/>
            <a:ext cx="52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olumnas de un templo clásico, un rodillo de amasar o el rulo de una apisonadora son también ejemplos de cilind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cilindro se forma al girar un rectángulo alrededor de uno de sus lados, que se mantiene fijo, como en una puerta gi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rtamos el cono por su superficie lateral y lo extendemos sobre una superficie plana,  obtenemos su desarrol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68360" y="333360"/>
            <a:ext cx="44625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484280"/>
            <a:ext cx="525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cucurucho de un helado y el tejado de una choza son ejemplos de co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cono se forma al girar un triángulo rectángulo alrededor de uno de sus cat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rtamos el cono por su superficie lateral y lo extendemos sobre una superficie plana, obtenemos su desarrol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508720" y="1197000"/>
            <a:ext cx="2989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Activida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79640" y="3789360"/>
            <a:ext cx="648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¿Qué características comunes ves a todos ell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81240" y="1138320"/>
            <a:ext cx="6099120" cy="2506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50920" y="458136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Dibuja otros tres cuerpos con las mismas caracter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48640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Señala 3 objetos reales que sean  polied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356000" y="1743120"/>
            <a:ext cx="4464000" cy="30542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292360" y="333360"/>
            <a:ext cx="28782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fe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404640"/>
            <a:ext cx="525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 pelota de playa, una naranja o una canica son ejemplos de esferas. La esfera se forma por el giro de un semicírculo alrededor de su diámetro. Los principales elementos de una esfera son su centro y su ra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LA ESFERA TERR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 la Tierra tiene forma casi esférica (está un poco achatada por los polos), la llamamos la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esfera terrest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la podemos trazar unas líneas imaginarias, que nos permitirán precisar la posición de cualquier punto sobre ella, por ejemplo, la situación de tu pueblo o ciu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as líneas son: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el eje terrestre, el ecuador, los paralelos y los merid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POLIED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63092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 llaman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poliedros a los cuerpos geométricos cuyas caras son polígono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s poliedros se clasifican en prismas y en pirámid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1440000" cy="1919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16360" y="4076640"/>
            <a:ext cx="1255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Ángulos died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3888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s planos que se cortan, dividen el espacio en cuatro reg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da una de ellas se llama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ángul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edr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 simplemente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ed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cara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 diedro son los semiplanos que lo determinan y la recta común a las dos caras se llama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aris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1054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6560" y="907560"/>
            <a:ext cx="8282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son tres planos los que se cortan, se le llama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riedr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i cuatro,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etraedr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i cinco,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entaedr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etc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 punto común se le llama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vérti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9295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vidad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66945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erva los siguientes poliedro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099120" cy="1817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4360" y="2997360"/>
            <a:ext cx="6553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los sitúas en un plano, observa que hay dos que no se pueden apoyar sobre todas sus caras. ¿Cuáles 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508640"/>
            <a:ext cx="769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s poliedros que tienen alguna cara sobre la que no se pueden apoyar, se les llam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óncavo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a los demá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nvex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518328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Activida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20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la figura siguiente tienes pintado un poliedro. En él se te indican algunos elementos característic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2557440"/>
            <a:ext cx="3485880" cy="2023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90920" y="22050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¿Cómo definirías cada uno de estos elemen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595008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 número de caras que concurren en un mismo vértice se le llama orden del vér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5440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¿Cuántas caras, vértices y aristas tiene este polied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436572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¿Cuántas caras se habrán de juntar en un vértice como míni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FÓRMULA DE EULER (1750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240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los poliedros de la figura, cuenta el número de caras, vértices y aristas y escríbelos en la tabl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564000" y="83664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5761080" cy="2308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627280" y="63025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¿Encuentras alguna relación entre C, V y 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6:51:19Z</dcterms:created>
  <dc:creator>Danny Perich</dc:creator>
  <dc:description/>
  <dc:language>en-US</dc:language>
  <cp:lastModifiedBy>Ricardo</cp:lastModifiedBy>
  <dcterms:modified xsi:type="dcterms:W3CDTF">2011-05-11T16:24:34Z</dcterms:modified>
  <cp:revision>116</cp:revision>
  <dc:subject/>
  <dc:title>POLIED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